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A13-C1D6-4C27-94C7-60005479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11C-F020-4887-A76D-97C5C2AA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B9C-D2F8-4C09-AEA3-1CF260F3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BAB-98E7-4B26-93D2-24E663FB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E554-E6DF-4CBD-83D4-B75F560C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9C1-2032-44DC-A660-5557D090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810B-25BC-40BE-AE9F-30046EB3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8FB-4DED-42C6-AF09-966D2EC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A3D9-3375-4B3C-BBBD-7727D8F0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3CCE-AB04-4486-88B2-B132DF92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D72B-7A2E-4A36-8A72-38FECBC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09A-EF89-48EA-903E-91905256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F53F-8C7D-435B-AA7C-5464536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6CE2-F46B-4347-85B6-C86A63B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E022-C731-4FDA-B69E-E8E9E85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A51B-CB04-4458-AEFD-8668B08E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9FD-36E5-485A-B96A-A41136C9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5D9F-1892-4DA3-886F-50D5FEC6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8100-858C-4FDC-B44D-34F947C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F52D-B698-4B09-B561-BFFA3934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65C5-7233-4746-852C-F96D2481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A9E2-AF1C-4835-8283-B508185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2A6-0A5C-43CD-8C87-A3ED60F0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98FF-4EA7-400B-9822-392628F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F776-EE77-47CF-9A66-5B79FA54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2905-CE3E-4DC9-A316-1755702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53D3-61FF-42E8-BBB4-57A076C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1692-86CB-4EA5-B19C-9D42DCAF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ADC6-D49B-44B0-96B2-049393FA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C60F-3345-4F71-BD75-2455DA02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27EC-C1C9-42E7-B723-E94D07BB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4D04E-EFCA-49B5-A4C0-92D78CC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467D-49DF-484B-B708-869D021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1AA-F2C6-4B79-9461-06178E1F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F2BB6-FF2F-4D18-A5F5-FA3C5248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C916-6014-4403-B689-36FA04B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E917-DA00-4A81-AF6F-D601020D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AD95-821A-4150-8DDD-43FFBFA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9256-988A-4B85-9089-C42AF82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86C3-E12A-460E-A7A4-E5FD54F3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84D2-A901-4A55-8D6B-5670EF7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C3D9-EC90-4BB7-8F55-BA249EE8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D698-4560-405C-8B1C-E4EB840B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3313B-2F69-471C-ADDF-2872CFC4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5CE-58E8-4C11-8BE9-27E0BE3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1D1C-2286-4AE1-86D4-D1F392CB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9E35-5834-4D5E-8E07-7378670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EB53-B079-4611-9F58-5B8E5BD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4CCC-1951-4468-9E0D-DDA5B4F4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A7BA-F329-4F92-8B57-120ABF98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22016-98CD-4659-8E76-BF17923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B85F-D0D2-4130-B64A-F20E7BA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3EE9-D641-4525-8CF1-3D5B249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F256-950B-431D-941F-4BE9440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D2F8C-7082-4510-A0F4-8BBA642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CED-D864-46BD-9FB3-39310F4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8E65D-C52F-42DF-9AEF-0EB2AEB0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F9C-A115-4485-80FB-3EEACB4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C52-FA00-4BF6-9C2B-9115A0F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5AC-CA4E-48FB-BF43-DE99569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CEC-FE82-40C0-8F33-E4215B9B628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406A-9C4F-431E-9708-8551B9B3FD5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B434-3A0F-46DA-A5FA-7ED40C56087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7A51-9C18-4164-B098-BE3E54AEE4E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BCF-15E9-4D25-A253-B447B19328C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39880" y="365040"/>
            <a:ext cx="6235920" cy="3043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071440" y="5428800"/>
            <a:ext cx="66862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одготовили: Цыпанова А., Мезенцева Н., Гира 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туденты 646 групп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428760" y="500040"/>
            <a:ext cx="77151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иск путей и способов обучения детей осуществлению анализа реальных предметов и их час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учить и проанализировать литературу по проблеме осуществления анализа реальных предметов и их частей детьми дошкольного возраст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бор дидактического материала по проблеме осуществления анализа реальных предметов и их час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Возраст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: старшая, подготовительная групп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642960" y="642960"/>
            <a:ext cx="7358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вообще то, что дано в познании, или на что обращена наша познавательная деятельнос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Объект (предмет) вообще то, что дано в познании, или на что обращена наша познавательная деятельнос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Час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доля целого, дробь, не все или нецело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642960" y="500040"/>
            <a:ext cx="778680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Анализ реальных предметов и их частей включает следующие подте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деление элементов и свойств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явление особенностей взаимного расположения объектов и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+ Создание кластеров по темам дисциплины «Графика в ДОУ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714240" y="90720"/>
            <a:ext cx="671544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Игры и упражнени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Соедините картинки на которых предметы расположены одинаков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. Раскрась одинаковым цветом круги точно такого размера как круг в рамке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. В каждом ряду найди и дорисуй картинку в которой чего-то не хватает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. Щенки взяли на прогулку разные предметы. Дорисуй самому толстому щенку бутерброд, самому худому—мячик, остальным—любые другие предметы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. Нарисуй пропущенные предметы (флажок, цветочек, шарик, флажок...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6. Соедини линиями одинаковые по высоте деревь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7. На рисунке слева раскрасьте все овощи, а на рисунке справа—все фрукты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8. Сможет ли Лисёнок поехать на этом велосипеде? (колёса овальной формы) Какой формы должны быть колёса? (круглые) Проведи по пунктиру сплошные линии, рисунок раскрас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85840" y="214200"/>
            <a:ext cx="7500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иагностика (задания те ж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Критерии оценк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 балл – ребёнок не выполняет зад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 балла – ребёнок выполняет задание, но не полностью, прибегает к помощи воспитател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 балла – ребёнок выполняет задание правильно, без ошибок и без помощи воспитател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Уровн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ровень – ребёнок не умеет осуществляьб анализ реальных предметов и ча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ровень – ребёнок с трудом осуществляет анализ реальных предметов и ча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ровень – ребёнок умеет осуществлять анализ реальных предметов и ча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14200" y="315000"/>
            <a:ext cx="78580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Е.И. Соловьёва Твоё путешествие в мир геометр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А. Бортовский, И. Лыкова Цветнаягеометрия (карапуз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Е.В. Новикова Как подготовить руку ребёнка к письм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Волшебные фигуры, геометрия для дошкольник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А.Е. Мерзен, А.Л. Чекен Азбука матема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6. Е.И. Соловьева Весёлая математика для самых маленьких; готовимся к школ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9:55:06Z</dcterms:created>
  <dc:creator>Ketik</dc:creator>
  <dc:description/>
  <dc:language>en-US</dc:language>
  <cp:lastModifiedBy>Гира</cp:lastModifiedBy>
  <dcterms:modified xsi:type="dcterms:W3CDTF">2008-12-22T11:53:02Z</dcterms:modified>
  <cp:revision>7</cp:revision>
  <dc:subject/>
  <dc:title>Как научить ребёнка осуществлять анализ реальных объектов и их частей</dc:title>
</cp:coreProperties>
</file>